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3AA-B074-4719-BBB1-1FB03214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5AA-6F04-43F1-8F0C-9B0799C8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4A2-0649-4C2B-BA03-410EAE5E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0AE-2EB7-4A18-9EFF-56CD7BF3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4F4-77B8-45C0-A06D-EE040056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4E6-EBA7-4FED-B536-21DEDCE3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F33-B778-41FF-9658-37D3B67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8E7-D0C2-4B19-B2B9-8182D11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30A-3DAD-48EF-9F79-E09216B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C14-66CB-483C-A627-5FF945C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DA7-3911-4778-8C69-2ADCD42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495-A284-48CC-8607-7AAF9AF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E354-F12B-4FC0-8566-41258D0179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1428840"/>
            <a:ext cx="42148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ι (4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να (6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 (53)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αν (1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αν (35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857840" y="158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al p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228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824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438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057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66740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e 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57160" y="54291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so can mean ‘if’ – see Chapter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71680" y="1500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571760" y="2168640"/>
            <a:ext cx="3143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ρ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εμ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θρ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λι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ν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00760" y="23288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00760" y="29527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000760" y="35863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000760" y="4186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000760" y="48006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00760" y="5410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71680" y="1285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71760" y="1954080"/>
            <a:ext cx="3143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ιρε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ηγορε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λογ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000760" y="21146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away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00760" y="27385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00760" y="337176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mise, conf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1680" y="415620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t more feminin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71760" y="4824360"/>
            <a:ext cx="3143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νε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λωσσα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5000760" y="49849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y,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5000760" y="56088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gue,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8800" y="1208160"/>
            <a:ext cx="4429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θηκη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κονια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αγγελια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θυμια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ρα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ρια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143240" y="1365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, scri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143240" y="19940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nant, last will and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143240" y="2603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, min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143240" y="322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143240" y="3832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143240" y="44514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143240" y="5089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143240" y="5703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mony, 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928800" y="123984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ργ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οφια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ια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ακη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ει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43240" y="14144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r,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43240" y="2023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143240" y="2643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143240" y="325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, value,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143240" y="3871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(guards),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143240" y="4481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40" y="51814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that often functions as a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928800" y="578628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τωχ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143240" y="5810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57:11Z</dcterms:created>
  <dc:creator>Sarah</dc:creator>
  <dc:description/>
  <dc:language>en-US</dc:language>
  <cp:lastModifiedBy>Sarah</cp:lastModifiedBy>
  <dcterms:modified xsi:type="dcterms:W3CDTF">2009-07-09T17:05:39Z</dcterms:modified>
  <cp:revision>19</cp:revision>
  <dc:subject/>
  <dc:title>Slide 1</dc:title>
</cp:coreProperties>
</file>